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17D80-BE4F-46D3-88F6-C4AB554A4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if an agent is too “fat” to migrate onto a particular no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co-process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ster scenario: coordinating things all over the country or world.  Involves many different organiz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larative nature of service-oriented paradigm is important: Scripts just declare what they want, and the system finds the services that fulfill these need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ch Rock does not support dynamic application deploym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Web and IrisNet do not focus on computing within SensorNets or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et does not have service provisioning for dynamic service binding. Tenet scripts assume that the instructions they execute exist.  The current implementation of Tenet assumes a homogeneous platform -- all instructions provided are kn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te version of 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AE9-3F4B-4EA1-BE67-234C95F3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D583-03F5-4909-B500-18BEC2CA9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0E78-A7FA-41D4-89F2-4E435F0BC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F6FC-FA42-4940-BB1D-A707E475F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45C1-6B4A-4303-91A2-EDE3136A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EA8-56BB-4E98-8B28-8025830D7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16F3-EEFE-4552-82D2-04F69D08F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C5D-32F0-4EA6-B5FF-EC902E6E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BE7-D05B-4B10-9690-D510DA54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7BDB-C4FE-453B-9221-CE2F17FD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442E-8B30-41FF-B0CB-7B7B37E89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374F-1A34-4276-9F8C-CA1A7070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20F8D-759E-4AE9-B8B2-2203BA6E4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wards a Flexible 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61760" y="3505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en-Liang Fok, Gruia-Catalin Roman, and Chenyang 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828800" y="5638680"/>
            <a:ext cx="5511960" cy="45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A187-F936-4896-A4A7-13E6FF7B2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esourc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of service for concurrent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ying resource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ing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bandwid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ttery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D1A1-2A79-4F44-AD98-C3B778F0006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Run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 &amp; intra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ipts must react to changes in their con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event types, sources, priorities, and usag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is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resources prevent hosting every service lo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ervice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/local persistent/transient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C28-1301-44F4-B7DC-642E1A29900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ript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923760" y="4038480"/>
            <a:ext cx="7748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 requi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reDete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 servi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erv; // a handle to the service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 void main(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     bind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GER | PERSISTENT, THREE_HOP, serv, FireDetectio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    while (true)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7         migrat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tRandomNeighbor(), STRO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lea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Fir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voke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onError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()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     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56080" y="2184480"/>
            <a:ext cx="2250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 = sensor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name = temperature&gt;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units = Celsiu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error 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±0.0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06C9-7576-43C3-91AE-FFB76ABE94C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 Status: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029200" cy="426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Agilla’s VM to support mobile scripts &amp; service invo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a service provisioning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ed on Tmote Sky test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86A1-A150-408A-A107-D5DC7C869BE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d SensorNets are evolving into a G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ew software architecture is required for building flexible GSI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proposed three-tiered service-oriented computing architec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eb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level platform-independent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-level platform-depend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allenges rem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417A-DCDC-4FE3-A2DB-AB8DC59D09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4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Nets are evolv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oftware architecture does not easily facili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new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flex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olving global sensing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5080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all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m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-spe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 Stat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5880" y="2378160"/>
            <a:ext cx="18288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-scal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terogeneou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Purpo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352680" y="29113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8360" y="3444840"/>
            <a:ext cx="17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isting SensorNe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53400" y="3444840"/>
            <a:ext cx="188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global sensing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 (GS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606760"/>
            <a:ext cx="131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olving i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62B8-E3FF-4B84-B835-F7D5D2E6D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Sensing 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4114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collection of sensors, microservers, base stations, and the Int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and continuously evol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by many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257800" cy="258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BAF9-1079-4362-8BFF-20E21BF77AB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wo Example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supply chain moni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s attached to products, cargo containers, loading docks, ship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fferent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ional disaster scenario coord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heterogeneous and dynamic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many organizations and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-program GSI to help victims and coordinate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6A12-779D-4A8C-9D95-0F8E140BE7D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Proposed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oftware architecture based on service-oriented computing &amp; mobile scri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b services: 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ctive platform-independent mobile scripts: dynamic application deployment 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icient platform-dependent services: flexible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ve service-oriented programming paradigm enables seamless integr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ify application development on evolving &amp; heterogene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2B0-C83A-4C5A-BC99-D84610DA9B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 Rock Corporation [Woo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SensorNet nodes to the external world as a web service using existing standards (WS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upport mobile scripts (dynamic deployment of apps) for programming inside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eWeb [Santanche et al, IPSN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eb portal for integrating &amp; viewing data collected from a Senso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risNet [Gibbons et al, IEEE Perv. Comp.’03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ributed database for WS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et [Gnawali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rt for tiered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Net has a fixed and unifor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851E-57AB-494E-A5D0-49E63AF3086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Related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rglass [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neidman et al.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rvard TR’04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frastructure for connecting SensorNets with the 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s on data routing and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VM [Levis et al, NSDI’0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VM with a custom instruc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not provide dynamic service 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S + DVM [Balani et al, EmSoft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VM with dynamically loadable binar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binding between script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lete [Yu et al, SenSys’06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pplication support within SensorN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quality of service pro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8B2-4AD1-4786-8F8C-3AF0994D3EC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r Software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oper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on engine (VM for mobile scrip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oyment &amp; execution of mobile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or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managemen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74AD-9792-4912-B9A7-10A4526D0B3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: Program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ice Heterogene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cefully handle error conditions like when a script invokes a service that is not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 Description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ct, exte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tio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eroge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the boundary between scripts and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3C2-B177-4C71-AE21-B0BE5F1548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14:55Z</dcterms:created>
  <dc:creator>Office 2004 Test Drive User</dc:creator>
  <dc:description/>
  <dc:language>en-US</dc:language>
  <cp:lastModifiedBy>Office 2004 Test Drive User</cp:lastModifiedBy>
  <dcterms:modified xsi:type="dcterms:W3CDTF">2007-04-24T08:28:09Z</dcterms:modified>
  <cp:revision>32</cp:revision>
  <dc:subject/>
  <dc:title>Towards a Flexible Global Sensing Infrastructure</dc:title>
</cp:coreProperties>
</file>